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20448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20448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FC35F84-BAE5-4395-BC98-EF26AC169D8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50920" y="206028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СТРУКОВНЕ СТУДИЈ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блок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А АНАТОМИЈ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logo medicinski"/>
          <p:cNvPicPr/>
          <p:nvPr/>
        </p:nvPicPr>
        <p:blipFill>
          <a:blip r:embed="rId1"/>
          <a:stretch/>
        </p:blipFill>
        <p:spPr>
          <a:xfrm>
            <a:off x="4067280" y="260280"/>
            <a:ext cx="914400" cy="146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нцип регенерације стабилних ћелија најбоље се може показати на примеру јетре која има највећу способност регенерације чак и ако се уклони 90% тки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мијска и метаболичка оштећења јетре уз очувани екстрацелуларни матрикс у облику ретикулинске потке могу се потпуно регенерисати структурно и функционално за две недељ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ви хепатоцити постају дифентовани за бројне транспортне, катаболичке и синтетске функ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 пролиферишућих диферентованих хепатоцита у јетри постоји на граници између хепатоцита и најмањих сегмената билијарног стабла популација стем ћелија које се могу диференцирати у хепатоците и епител билијарних каналић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 дође до разарања везивно ткивне потке долази до процеса фиброп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је и цикатриз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оненте екстрацелуларног матрикса (ламинин, колаген тип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i I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у току овог процеса стварају Итове ћел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чити фактори раста су митогени за хепатоците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GF, HGF, TGF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процес регенерације повољно утичу естроген инсулин, глукагон, вазопресин, ангиотенз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бубрегу гломерули немају регенративну способност док епител бубрежних каналића регенерише уколико је очувана базална мембрана, пролиферацијом, миграцијом, повећаном митотском активношћу и функционалном диференцијацијом у току три недеље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тке мишићне ћелије (утерус, зида желуца и колона, крвних судова) имају способност регерације али се веће лезије замењују ожиљним тк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ндотелне ћелије имају способност митотских деоба али брзина зависи од типа и величине крвног суда тако да је њихова регенерација у аорти знатно слабија него у капиларним крвним суд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прогениторне ћелије су најмање диферентоване ћелије које стварају кост и присутне су у периосту и ендосту при чему за потпуну ремоделацију коштаног ткива потребно и до неколико год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елетне мишићне ћелије имају извесну способност регенерације из тзв. сателитних ћелија које се налазе између ћелијске и базалне мембране скелетне мишићне ћел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олико је базална мембрана интактна миобласти се фузионишу, сазревају и формирају нова мултинуклеарна мишићна влакна док се при већим оштећењима стварају ожиљц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генерација перманентних 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рдиомиоцити губе способност за деобу након рођења и може се само повећати њихова величина (хипертрофија). После инфаркта оштећење у миокарду се замењује ожиљним ткивом (фибрибласти и колаген тип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урони централног нервног система не регенеришу након повреде, долази до трајног губитка структуре и функције са стварањем глијалног ожиљка или шупљине тзв. псеудоци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генерација периферног нерва је могућа само уколико је очувано тело нервне ћелије. Процес регенерације пролази кроз више фаза које се одигравају у телу нервне ћелије, на проксималном и дисталном сегменту пресеченог нерва као и у околном тки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телу нервне ћелије долази до аксоналне реакције - децентрализације једра. Дезинтеграција аксона и мијелин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Wallerov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генерација) проксималног и дисталног сегмента ензимски се разграђује од стране запаљенских ћелија и макрофа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кон овога долази до пролиферациј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chwannovi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ћелија на проксималном окрајку које стварају стуб ћелија као путоказ за урастање аксоналних пупољака који се касније мијелинизу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кон регенерације једро неурона поново заузима централну пози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рвни фактор раста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GF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и ламинин, фибронектин и Е-катхерин стимулишу регенерацију нерва и стабилизацију пролиферисаног снопа Шванових ћел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АРАЦИЈА ВЕЗИВНИМ ТКИВО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9240" y="1514160"/>
            <a:ext cx="852480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парација везивним ткивом 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иброплазија или цикатризациј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након оштећења које често изазива запаљење тако да се почетна фаза репарације поклапа и са запаљенским то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процесу фиброплазије оштећено и некротично ткиво замењује се гранулационим ткивом које је јако васкуларизовано везивно ткиво са инфламаторним ћелијама 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васкуларно гранулационо ткив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о је зрнасте површине ружичасте боје, едематозно, мекане конзистенције, вулерабилно, неостељиво на бол и резистентно на инфек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процесу његовог сазревања долази до умножавања фибробласта и миофибробласта поред комплексне капиларне мреже и резидуалних макрофага 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иброваскуларно гранулационо ткив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АРАЦИЈА ВЕЗИВНИМ ТКИВО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љим сазревањем простор између крвних судова испуњавају фибробласти који синтетишу колаген 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иброзно гранулационо ткиво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 би на крају сазревања дошло до редукције крвних судова и целуларних елемената уз депоновање густих колагених влакана - стварањ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жиљ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жиљак је стална, иреверзибилна промена која доводи до смањења функције ткива и орг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АРАЦИЈА ВЕЗИВНИМ ТКИВО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процесу фиброплазије присутне су четири компонен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 ангиоген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миграција и пролиферација фибробл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. депоновање Е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. сазревање и реорганизација везивног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вна јединица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3157560"/>
            <a:ext cx="914400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acaa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РЕПАРАЦИЈЕ И РЕГЕНЕР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АРАЦИЈА ВЕЗИВНИМ ТКИВО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Ангиогенез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 динамичан процес стварања нових крвних судова пупљењем из постојећих крвних судова (најчешће капилара и вену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гиогенеза се одвија кроз следеће фа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активиране ендотелне ћелије пролиферишу и својим протеолитичким ензимима (активатор плазминог гена, колагеназе) разграђују базалну мембрану и компоненте екстрацелуларног матрикса. Ова фаза омогућава стварање капиларног пупољ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ендотелне ћелије у облику солидних трака мигрирају кроз екстраваскуларни простор ангигеног стимулуса (некротичко ткиво фибрин) и међусобно се анастомозира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АРАЦИЈА ВЕЗИВНИМ ТКИВО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ендотелне ћелије водећег фронта показују изражену пролиферативну активност и секретују ламинин а ендотелне ћелије ближе матичном крвном суду стварају компоненте базалне мембране пре свега колаген тип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. под утицајем фактора раст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GF, bFGF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и интеракције ендотелних ћелија са компонентама ЕСМ (колаген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ламинин) долази до матурације и диференцијације ендотелних ћелија са стварањем капиларног тубуса и капиларне петље или васкуларне каск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АРАЦИЈА ВЕЗИВНИМ ТКИВО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востворени крвни судови сазревају у капиларе, артериоле и венуле а мезенхимне ћелије трансформишу се у периците и глатке мишићне ћелије, док периендотелне ћелије утичу на матурацију крвног суда, обезбеђују структурну потпору, контролишу пролиферацију ендотелних ћелија, васкуларни пермеабилитет и тон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АРАЦИЈА ВЕЗИВНИМ ТКИВО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с ангиогенезе регулиш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фактори раст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F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- за који ендотелне ћелије поседују специфичне рецепторе и везивањем за тирозин - киназни рецептор омогућено је стварање капиларног тубуса што представља кључну фазу ангиогенез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дхезиони молекули (интегрини, селектини, кадхерини - модулирају проангиогене функције, миграцију, пролиферацију, одржавање и деградацију матрикса накупљање периендотелних ћелија и стабилазацију новостворених крвних суд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ензими ЕСМ (металопротеиназе доводе до протеолизе компоненти ЕС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АРАЦИЈА ВЕЗИВНИМ ТКИВО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матрицелуларни протеини (тромбоспондин, тенасцин имају антиангиогена дејст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фактори коагуклације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циток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АРАЦИЈА ВЕЗИВНИМ ТКИВО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играција и пролиферација фибробл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бробласти потичу из преегзистирајућих локалних фибробласта и мезенхимних стем ћелија, пролиферишу, прате капиларне петље и стварају различите компоненте Е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востворени капиларни крвни судови су изразито пермеабилни што представља одличан медијум за раст фибробласта које стимулишу и фактори раст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DGF, bFGF i TGF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 и цитокини 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-1 i TNF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АРАЦИЈА ВЕЗИВНИМ ТКИВО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ђу пролиферисаним фибробластима налазе се миофибробласти који имају особине фибробласта и глатких мишићних ћелија са присутним актинским и миозинским филаментима у цитоплазми без комплетне базалне мемб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офибробласти имају значајну улогу у феномен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тракције ра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АРАЦИЈА ВЕЗИВНИМ ТКИВО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епоновање екстрацелуларног матри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ицијални ЕСМ гранулационог ткива садржи претежно фибронектин, протеогликане и тенасцин а синтеза колагена од стране фибробласта започиње трећег дана од настанка лезије и постаје све обимнија праћена ремоделац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тезу колагена стимулишу фактори раст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GF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DGF, bFGF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цитокини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-1, 4, TNF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 стварају фибробласти, макрофаги и гранулоци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значијнији фиброгени фактор раста ј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GF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оји стимулише миграцију и пролиферацију фибробласта, синтезу колагена и фибронек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АРАЦИЈА ВЕЗИВНИМ ТКИВО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емоделација ткив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 задњу фазу процеса репарације где долази до замене гранулационог ткива ожиљним ткивом и променом састава ЕСМ уз доминацију колаге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од контролом матриксних металопротеиназа и њихових ткивних инхиби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ходно новим линија оптерећења долази до разградње депонованих колагених влакана и одлагања нових при чему синтеза превазилази разградњу, а колагени снопови међусобно унакрсно повезани и испруг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ана подразумева структурно оштећење са губитком тки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растање ране представља комплексан и динамичан феномен који обухвата низ координираних проце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инфлам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миграцију и пролиферацију епителних и везивноткивних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нгиогене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интезу епителне и ендотелне базалне мембране и других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оненти Е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ремоделацију компоненти везивног ткива и паренх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енерација подразумева процес надокнаде оштећених или изумрлих ћелија и ткива, ћелијама и ткивом идентичне структуре и функ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варање везивно ткивног матрикса нарочито колагена и његова ремоделација у ожиљак крајњи су ефекти зарастања 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зарастању ране учествију читав низ различитих група супстанц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фактори раст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GF, EGF, IGF, PDGF, VEGF, TGF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леукини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-1, 2, 4, 6, 8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фактори стимулације колониј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M-CSF, G-CSF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интерферони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фактори коагула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медијатори инфламације, ћелијске пролиферације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игр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ом зарастања ране разликује три основне фа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1. фаза иницијалног крварења и реактивног запаљењ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иницијално крварење обезбеђује фибриноген, фибронект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азме, тромбоците 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GF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Полимери фибрина и плазматског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бронектина се везују за фрагменте разореног колагена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е компоненте ЕСМ стварајући матрикс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ктивирани тромбоцити луче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DGF, TGF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GM-CSF, IL-1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 изазивају хемотаксу полиморфонуклеарних леукоцит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Р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, ћелија моноцитно-макрофагног система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лиферацију стромалних ћелија, фибробласта, ендотелних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тких мишићних ћел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Р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мигрирају дуж специфичног хемокинског градијент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дукујући многе факторе раста и цитокине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GF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GM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SF, IL-1, 6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моноцити - макрофаги уклањају мртво ткиво и фибр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ом колагеназа, еластаза, плазминоген активатора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гоцитозом и разградњом путем лизозомалних ензима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изводе факторе раст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GF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GM-CSF, bFGF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кој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имулишу урастање фибробласта и ендотелних ћелиј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но стварање гранулацио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2. у пролиферативној фаз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минира процес епителизације и стварања гранулацио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епителне ћелије мигрирају док не дођу у међусобни контак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феномен контактне инхибиције). Фибрин и плазматск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бронектин чине иницијални супстрат за мигрирањ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пителних ћелија а касније се синтетишу перманент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оненте базалне мембране фибронектин, ламинин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лаген тип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крвни судови урастају у подручје ране у процесу ангиоген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ктивација фибробласта резултира пролиферацијом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играцијом истих који синтетишу колагене, фибронектин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икозаминогликане, колаген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3. у фази матурације и ремоделаци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зивног ткива депонују се колагени снопови грађени од колагена тип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пуњава се дефект ране и фибробласти се транформишу у фиброц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у пределу великих рана јавља се феномен контракције ран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е главни допринос дају миофибр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растањ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er primam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значава зарастање најчешће хируршки направљене, инцизионе, не инфициране ране са апозицијом пресечених ивица помоћу хируршке сутуре након чега остаје дискретан, линеаран, седефаст ожиљ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растањ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er secundam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разумева зарастање ране где постоји супстанцијални дефект ткива тако да се ивице ране не могу приближити при чему се ткивни дефект постепено са дна и са стране испуњава гранулационим ткивом које сазревањем прелази у везивно ткивни ожиљак различите велич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1771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 зарастања 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недовољно стварање ожиљног ткива због поремећај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рања гранулационог ткива и стварања неоодговарајућег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СМ (смањен ниво фактора раста, хемотаксе промотер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гиогенезе), а резултира улцерацијом и дехисценцијом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аварње хипертрофичних ожиљака (издигнути, неправилни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рсти, у границама претходне лезије) и келоида (неправилн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јалинизовани снопови колагена вртложастог аранжма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ејака контракција - контрактура због прејаке контракциј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анулационог ткива (код великих рана, на табанима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ланов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ктори који утичу на зарастање 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и факто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тип, величина и локализација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инфе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исх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имобил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енерв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рана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јонизујуће зрач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ултраљубичасти зра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ски факто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неадекватна исх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стар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хорм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метаболичка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малигни тум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енерација се одвија на два нач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 из околних неоштећених диферентованих ћелија које мигрирају, пролиферишу и подлежу дедиференцијацији пре редиференцијације у зони оштећеног тк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из матичне, стем ћелије ткива која пролиферише и подлеже диференциј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ОРГАНИЗ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а је процес потпуне или делимичне замене мртвих маса гранулационим и ожиљним ткивом са демаркацијом према околном ткиву помоћу фиброзне капс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су организације могу подлећ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инфарк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некротична огњишта другог порекла (казеозна некроза са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з калцифик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тром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запаљенски ексудати (фибринозни, фибринозно гнојни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нојн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изливена кр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рана тела егзогеног и ендогено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ОРГАНИЗ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процесу организације прво долази до реактивног запаљења праћеног следственом ензимском разградњом и фагоцитозом некротичног супст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следећој фази долази до урастања гранулационог ткива које сазревањем и ремоделацијом прелази у фиброзно ткиво при чему се формир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ожиљак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icatrisatio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езивна капсул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ncapsulati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уколико се некротични супстрат није ресорбова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1"/>
          <p:cNvPicPr/>
          <p:nvPr/>
        </p:nvPicPr>
        <p:blipFill>
          <a:blip r:embed="rId1"/>
          <a:stretch/>
        </p:blipFill>
        <p:spPr>
          <a:xfrm>
            <a:off x="311040" y="1301760"/>
            <a:ext cx="8575920" cy="4657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2-1"/>
          <p:cNvPicPr/>
          <p:nvPr/>
        </p:nvPicPr>
        <p:blipFill>
          <a:blip r:embed="rId1"/>
          <a:stretch/>
        </p:blipFill>
        <p:spPr>
          <a:xfrm>
            <a:off x="1173240" y="1674720"/>
            <a:ext cx="6291360" cy="3862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2-2"/>
          <p:cNvPicPr/>
          <p:nvPr/>
        </p:nvPicPr>
        <p:blipFill>
          <a:blip r:embed="rId1"/>
          <a:stretch/>
        </p:blipFill>
        <p:spPr>
          <a:xfrm>
            <a:off x="1087560" y="1763640"/>
            <a:ext cx="6329160" cy="3936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2-3"/>
          <p:cNvPicPr/>
          <p:nvPr/>
        </p:nvPicPr>
        <p:blipFill>
          <a:blip r:embed="rId1"/>
          <a:stretch/>
        </p:blipFill>
        <p:spPr>
          <a:xfrm>
            <a:off x="890640" y="1689120"/>
            <a:ext cx="6535800" cy="401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2-4"/>
          <p:cNvPicPr/>
          <p:nvPr/>
        </p:nvPicPr>
        <p:blipFill>
          <a:blip r:embed="rId1"/>
          <a:stretch/>
        </p:blipFill>
        <p:spPr>
          <a:xfrm>
            <a:off x="890640" y="1687680"/>
            <a:ext cx="6526080" cy="39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3-1"/>
          <p:cNvPicPr/>
          <p:nvPr/>
        </p:nvPicPr>
        <p:blipFill>
          <a:blip r:embed="rId1"/>
          <a:stretch/>
        </p:blipFill>
        <p:spPr>
          <a:xfrm>
            <a:off x="973080" y="1646280"/>
            <a:ext cx="6459480" cy="4003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3-2"/>
          <p:cNvPicPr/>
          <p:nvPr/>
        </p:nvPicPr>
        <p:blipFill>
          <a:blip r:embed="rId1"/>
          <a:stretch/>
        </p:blipFill>
        <p:spPr>
          <a:xfrm>
            <a:off x="993600" y="1617840"/>
            <a:ext cx="6462720" cy="406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3-3"/>
          <p:cNvPicPr/>
          <p:nvPr/>
        </p:nvPicPr>
        <p:blipFill>
          <a:blip r:embed="rId1"/>
          <a:stretch/>
        </p:blipFill>
        <p:spPr>
          <a:xfrm>
            <a:off x="911160" y="1758960"/>
            <a:ext cx="6531120" cy="390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вило је да диферентованија ткива имају мањи капацитет за регенерацију од једноставних ткива али постији и много изузет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 на пример ћелије јетре које су високо диферентоване и специјализованих функција регенеришу брже од мишићних ћелија и ћелија бубрежних туб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3-4"/>
          <p:cNvPicPr/>
          <p:nvPr/>
        </p:nvPicPr>
        <p:blipFill>
          <a:blip r:embed="rId1"/>
          <a:stretch/>
        </p:blipFill>
        <p:spPr>
          <a:xfrm>
            <a:off x="874800" y="1690560"/>
            <a:ext cx="6599160" cy="392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ЗАРАСТАЊЕ РА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10"/>
          <p:cNvPicPr/>
          <p:nvPr/>
        </p:nvPicPr>
        <p:blipFill>
          <a:blip r:embed="rId1"/>
          <a:stretch/>
        </p:blipFill>
        <p:spPr>
          <a:xfrm>
            <a:off x="1725480" y="1393920"/>
            <a:ext cx="5624640" cy="476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генерација лабилних 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генерација епителних ћелија у физиолошким условима настаје пролиферациом (деобом) и диференцијацијом тзв. Резервних (стем) ћелија које су присутне уз базалну мембрану скоро свих епи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генерација крвних елемената врши се током целог живота из матичне ћелије у костној сржи, пролиферацијом и диференцијацијом кроз низ прелазних форми које су карактеристичне за сваки од типова крвних елемената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енерација пролази кроз три стадију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формирање крвног коагулума и развијање акутне запаљенске реакције у току првих 24 до 36 ча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миграција ћелија преко огољене површине почиње већ након 1 сата а повећана митотска активност базалних ћелија околног епитела настаје већ крајем првог д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 пролиферативна активност обезбеђује замену ћелија које су мигрирале дуж екстрацелуларног матрикса као и наставак континуиране мигр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цес регенерације траје дуже уколико је оштећена базална мембрана. Формирањем једног слоја ћелија долази до прекида миграције феноменом контактне инхиби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3. диференцијација епитела почиње 4 дана након оштећења реаранжирањем пролиферисаних ћелија. За потпуну обнову ткива потребно је више од 6 недељ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енерација стабилних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 потпуне регенерације ткива грађених из стабилних ћелија долази само ако је везивно ткивни скелет који има улогу водича за миграцију пролиферишућих ћелија неоштећен. У супротном у процес надокнаде ткива укључује се механизам фиброплазије при чему се оштећено ткиво надокнађује везивним ткивом делимично или у целини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korisnik</dc:creator>
  <dc:description>PresentationLoad.com</dc:description>
  <dc:language>en-US</dc:language>
  <cp:lastModifiedBy>KCKG</cp:lastModifiedBy>
  <dcterms:modified xsi:type="dcterms:W3CDTF">2019-02-07T12:29:50Z</dcterms:modified>
  <cp:revision>399</cp:revision>
  <dc:subject/>
  <dc:title>PowerPoint Template</dc:title>
</cp:coreProperties>
</file>