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858B-5698-4FBD-9033-56DF9D86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0D9-7824-4D67-90EB-6E7C7CC8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566-C7BB-4C39-92E4-18C710C6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7CA2-606B-40A3-ACBA-ED49899B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7343-AEF6-48D9-B337-06869EA0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229E-AAE1-41B2-8627-872DB511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EE13-DAE4-4BA5-BDFB-4F90B132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6F23-59E8-46A0-BC15-E9346578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FC3D-55DF-4D4F-9DC8-6400AB49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79DF-07DC-4EBA-9C56-5E6B935D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7242-743B-49B7-833A-74D67AF9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522C-D002-4081-8E14-364C89F4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18A3-912A-4977-8211-B5778E57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AE52-CF57-44CC-9A30-B37E24FA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3C1F-21AF-4966-818E-3FA8AF15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F9BC-83E4-40A9-A76A-0AD1DEF9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129B-8E70-49D6-9F02-165BC269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FECD8-228B-4A2E-A43A-A86AE7C2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E90F2-31F8-46EA-9086-7780D9F9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34CEA-2D2B-49F6-A44D-4BADDAA6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30EC1-57A8-4C1D-A976-B1C53E76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DB5EC-C924-498B-A017-0407E577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7DC-22C5-46AB-8D28-E78B065E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FD00D-2F8C-4507-B82B-C3F9356F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B7DAD-1A2A-4CD2-B1A7-6F7BB49F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405CD-2EFC-473F-A2F6-A92D189E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46B9C-7FDF-441E-992E-F71C0A75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3014E-E68A-48B2-8EAA-57901D70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A7D42-0943-42AB-86D1-E2AC17D7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F5840-8F40-44B7-B9FE-8F5E28B5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A1256-9CB5-4A47-8A57-C9EA0D9E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7DC9A-2A39-4FB3-A68F-B5FE5250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4676C-2DE6-43BD-B9AB-42EEBD2A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11DA-AD13-4C53-BBDA-809F3744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DA4CB-E353-4EAC-9334-DDBC7FC5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C4846-57CE-4C47-A819-A98FF674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FF5C3-9F32-4B9C-8809-1DF6EB07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7DF1D-21AD-4849-8212-96CBC147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A72B6-557B-4109-82A5-514A5725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F5B7D-F3B3-4EC0-AA84-ABA01B17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DAE3B-665E-4A52-B63F-520C42E1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F95C8-6AF7-4C58-986C-8C081154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8C210-8774-41D7-B864-2F013697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C27BC-6D81-455E-B78D-86D7258C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4CF-1E5E-4921-BD75-5D667489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01047-4937-4EFB-A18F-44F79066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BBB19-8899-4930-A1B7-986EB484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9AEC2-09E6-4B8C-947A-967A8046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12D5E-D904-4C39-A080-E17CC5B3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BBD1F-476E-4C7E-B15F-96C9B12F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FE87D-896C-49A4-B80E-A956E24E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D231C-4E9A-4277-8F05-8FA705BD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AE38C-826F-4821-8B5C-BECED1B8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5D8FE-222B-4C93-9CA1-65025E1E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096EC-5B26-45F7-BFD7-B6D3FCFD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63BA-B88F-4E4A-B54C-AA8B0C2E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BCC48-E5F2-49D7-9B94-7E02494F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B749-8E21-4F67-8FC5-5160B693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B74-57A1-47BC-8782-ECE08CD2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4FE4-A457-4BB1-A308-B6023EB5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D42F-7C49-40EB-9CF3-9731C3DC286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596A-BFA4-4141-B04D-AE1F913906C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77CA-38A5-4956-89E3-0CB8BE72055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64B1-48E6-41A8-8D79-6CFC97E9BBE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5802-AE61-45FA-B006-FC6D6F9C82C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914040" y="1071720"/>
            <a:ext cx="7623000" cy="26431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ffffff"/>
                </a:solidFill>
                <a:latin typeface="Calibri"/>
              </a:rPr>
              <a:t>ПРОЦЕСИ</a:t>
            </a:r>
            <a:r>
              <a:rPr b="1" lang="en-US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sr-CS" sz="4600" spc="-1" strike="noStrike">
                <a:solidFill>
                  <a:srgbClr val="ffffff"/>
                </a:solidFill>
                <a:latin typeface="Calibri"/>
              </a:rPr>
              <a:t>ОРГАНИЗАЦИЈЕ</a:t>
            </a:r>
            <a:r>
              <a:rPr b="1" lang="en-US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Њихово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грамирано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кретовањ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начајно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ембриогенез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ормално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ржавањ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став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мунског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говор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паљењ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генераци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параци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Фактор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ст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во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тица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стваруј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ендокриним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аракриним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утокриним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игналисањем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Најзначајнији</a:t>
            </a:r>
            <a:r>
              <a:rPr b="0" lang="sr-Latn-CS" sz="24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фактори</a:t>
            </a:r>
            <a:r>
              <a:rPr b="0" lang="sr-Latn-CS" sz="24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раста</a:t>
            </a:r>
            <a:r>
              <a:rPr b="0" lang="sr-Latn-CS" sz="24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су</a:t>
            </a:r>
            <a:r>
              <a:rPr b="0" lang="sr-Latn-CS" sz="2400" spc="-1" strike="noStrike">
                <a:solidFill>
                  <a:srgbClr val="ff0000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Fibroblasni faktor rasta (FGF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Trombocitni faktor rasta (PDGF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Transformišući faktor rasta alfa i beta (TGF- alfa i     TGF-beta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Epidermalni faktor rasta (EGF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Фактори</a:t>
            </a:r>
            <a:r>
              <a:rPr b="0" lang="sr-Latn-C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инхибициј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77300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д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ржавањ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тегритет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опходно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стојањ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игнал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хибици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ст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ем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дн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пулациј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лиј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граничит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ст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ругој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в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упстанц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падај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TGF-beta, TNF, </a:t>
            </a:r>
            <a:r>
              <a:rPr b="0" i="1" lang="sr-CS" sz="2400" spc="-1" strike="noStrike">
                <a:solidFill>
                  <a:srgbClr val="000000"/>
                </a:solidFill>
                <a:latin typeface="Cambria"/>
              </a:rPr>
              <a:t>Интерферон</a:t>
            </a:r>
            <a:r>
              <a:rPr b="0" i="1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ambria"/>
              </a:rPr>
              <a:t>бета</a:t>
            </a:r>
            <a:r>
              <a:rPr b="0" i="1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растворљив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лекул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ECM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хибициј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ст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начајн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зв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.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контактна</a:t>
            </a:r>
            <a:r>
              <a:rPr b="0" lang="sr-Latn-CS" sz="24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инхибициј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Зарастање</a:t>
            </a:r>
            <a:r>
              <a:rPr b="0" lang="sr-Latn-CS" sz="36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ран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5712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8640" indent="-5486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начајан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оцес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чувањ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бнов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нтегритет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штећених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рган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48640" indent="-548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marL="548640" indent="-5486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сновн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фаз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48640" indent="-5486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marL="548640" indent="-5486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Запаљење</a:t>
            </a:r>
            <a:r>
              <a:rPr b="0" lang="sr-Latn-CS" sz="28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и</a:t>
            </a:r>
            <a:r>
              <a:rPr b="0" lang="sr-Latn-CS" sz="28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одстрањивање</a:t>
            </a:r>
            <a:r>
              <a:rPr b="0" lang="sr-Latn-CS" sz="28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дебрија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48640" indent="-5486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Стварање</a:t>
            </a:r>
            <a:r>
              <a:rPr b="0" lang="sr-Latn-CS" sz="28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гранулационог</a:t>
            </a:r>
            <a:r>
              <a:rPr b="0" lang="sr-Latn-CS" sz="28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ткива</a:t>
            </a:r>
            <a:r>
              <a:rPr b="0" lang="sr-Latn-CS" sz="28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и</a:t>
            </a:r>
            <a:r>
              <a:rPr b="0" lang="sr-Latn-CS" sz="28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фиброплазија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48640" indent="-5486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Контракција</a:t>
            </a:r>
            <a:r>
              <a:rPr b="0" lang="sr-Latn-CS" sz="28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ране</a:t>
            </a:r>
            <a:r>
              <a:rPr b="0" lang="sr-Latn-CS" sz="2800" spc="-1" strike="noStrike">
                <a:solidFill>
                  <a:srgbClr val="ff0000"/>
                </a:solidFill>
                <a:latin typeface="Perpetua"/>
              </a:rPr>
              <a:t> (</a:t>
            </a: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редукција</a:t>
            </a:r>
            <a:r>
              <a:rPr b="0" lang="sr-Latn-CS" sz="28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њене</a:t>
            </a:r>
            <a:r>
              <a:rPr b="0" lang="sr-Latn-CS" sz="28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величине</a:t>
            </a:r>
            <a:r>
              <a:rPr b="0" lang="sr-Latn-CS" sz="2800" spc="-1" strike="noStrike">
                <a:solidFill>
                  <a:srgbClr val="ff0000"/>
                </a:solidFill>
                <a:latin typeface="Perpet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48640" indent="-5486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Ожиљвање</a:t>
            </a:r>
            <a:r>
              <a:rPr b="0" lang="sr-Latn-CS" sz="28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са</a:t>
            </a:r>
            <a:r>
              <a:rPr b="0" lang="sr-Latn-CS" sz="28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ремоделисањем</a:t>
            </a:r>
            <a:r>
              <a:rPr b="0" lang="sr-Latn-CS" sz="28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зарастајуће</a:t>
            </a:r>
            <a:r>
              <a:rPr b="0" lang="sr-Latn-CS" sz="28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ран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Тр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главн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механизм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оцесу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зарастањ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Контракција</a:t>
            </a:r>
            <a:r>
              <a:rPr b="0" lang="sr-Latn-CS" sz="2600" spc="-1" strike="noStrike">
                <a:solidFill>
                  <a:srgbClr val="ff0000"/>
                </a:solidFill>
                <a:latin typeface="Perpetu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Репарација</a:t>
            </a:r>
            <a:r>
              <a:rPr b="0" lang="sr-Latn-CS" sz="2600" spc="-1" strike="noStrike">
                <a:solidFill>
                  <a:srgbClr val="ff0000"/>
                </a:solidFill>
                <a:latin typeface="Perpetua"/>
              </a:rPr>
              <a:t> (</a:t>
            </a: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фиброза</a:t>
            </a:r>
            <a:r>
              <a:rPr b="0" lang="sr-Latn-CS" sz="2600" spc="-1" strike="noStrike">
                <a:solidFill>
                  <a:srgbClr val="ff0000"/>
                </a:solidFill>
                <a:latin typeface="Perpetu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Регенерациј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оцес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зарастањ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ран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важан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оцес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ангиогенез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м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централну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логу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оцесим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репарациј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ал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еоплазиј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атеросклероз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Фактори</a:t>
            </a:r>
            <a:r>
              <a:rPr b="0" lang="sr-Latn-CS" sz="26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који</a:t>
            </a:r>
            <a:r>
              <a:rPr b="0" lang="sr-Latn-CS" sz="26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утичу</a:t>
            </a:r>
            <a:r>
              <a:rPr b="0" lang="sr-Latn-CS" sz="26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на</a:t>
            </a:r>
            <a:r>
              <a:rPr b="0" lang="sr-Latn-CS" sz="26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процес</a:t>
            </a:r>
            <a:r>
              <a:rPr b="0" lang="sr-Latn-CS" sz="26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ангиогенезе</a:t>
            </a:r>
            <a:r>
              <a:rPr b="0" lang="sr-Latn-CS" sz="26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су</a:t>
            </a:r>
            <a:r>
              <a:rPr b="0" lang="sr-Latn-CS" sz="2600" spc="-1" strike="noStrike">
                <a:solidFill>
                  <a:srgbClr val="ff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i="1" lang="sr-Latn-CS" sz="2600" spc="-1" strike="noStrike">
                <a:solidFill>
                  <a:srgbClr val="000000"/>
                </a:solidFill>
                <a:latin typeface="Cambria"/>
              </a:rPr>
              <a:t>TGF beta, VEGF,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цитокин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Cambria"/>
              </a:rPr>
              <a:t>TNF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отеин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згрушавањ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есолубилн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фактор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х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кружују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ламинин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Фазе</a:t>
            </a:r>
            <a:r>
              <a:rPr b="0" lang="sr-Latn-CS" sz="26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у</a:t>
            </a:r>
            <a:r>
              <a:rPr b="0" lang="sr-Latn-CS" sz="26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ангиогенези</a:t>
            </a:r>
            <a:r>
              <a:rPr b="0" lang="sr-Latn-CS" sz="2600" spc="-1" strike="noStrike">
                <a:solidFill>
                  <a:srgbClr val="ff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теолитичк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еградациј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B</a:t>
            </a:r>
            <a:r>
              <a:rPr b="0" i="1" lang="sr-CS" sz="24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ворног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уд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играциј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лиј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ужањ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сеудоподиј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редишт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н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Њихов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лиферациј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разовањ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акуол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ркам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лијам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зревањ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ендотелних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лиј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формирај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пиларн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цев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пајањем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јединачних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акуол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лучуј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аминин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сни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лаген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ип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IV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в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фаз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вршав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пајањем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пилар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јавом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аскуларних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етљ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блиц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зарастањ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ран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0000"/>
                </a:solidFill>
                <a:latin typeface="Cambria"/>
              </a:rPr>
              <a:t>“</a:t>
            </a:r>
            <a:r>
              <a:rPr b="0" i="1" lang="sr-Latn-CS" sz="2400" spc="-1" strike="noStrike">
                <a:solidFill>
                  <a:srgbClr val="ff0000"/>
                </a:solidFill>
                <a:latin typeface="Cambria"/>
              </a:rPr>
              <a:t>per primam intentionem ”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стављено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истом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цизијом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тављањем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утур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виј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инимумом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убитк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ез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начајни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актеријск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фекци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ом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лучај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стој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њ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хематом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формир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њ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личин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ранулационог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растањ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рзо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жиљак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инеаран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0000"/>
                </a:solidFill>
                <a:latin typeface="Cambria"/>
              </a:rPr>
              <a:t>“</a:t>
            </a:r>
            <a:r>
              <a:rPr b="0" i="1" lang="sr-Latn-CS" sz="2400" spc="-1" strike="noStrike">
                <a:solidFill>
                  <a:srgbClr val="ff0000"/>
                </a:solidFill>
                <a:latin typeface="Cambria"/>
              </a:rPr>
              <a:t>Per secundam intentionem”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ављ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еликих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ефекат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могућност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ближ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виц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н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рактериш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тварањем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елик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личин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ранулационог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вакво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растањ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поро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жиљц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еформишућ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Фактори</a:t>
            </a:r>
            <a:r>
              <a:rPr b="0" lang="sr-Latn-CS" sz="36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који</a:t>
            </a:r>
            <a:r>
              <a:rPr b="0" lang="sr-Latn-CS" sz="36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модификују</a:t>
            </a:r>
            <a:r>
              <a:rPr b="0" lang="sr-Latn-CS" sz="36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зарастање</a:t>
            </a:r>
            <a:r>
              <a:rPr b="0" lang="sr-Latn-CS" sz="36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ран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Локални</a:t>
            </a:r>
            <a:r>
              <a:rPr b="0" lang="sr-Latn-CS" sz="26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утицај</a:t>
            </a:r>
            <a:r>
              <a:rPr b="0" lang="sr-Latn-CS" sz="2600" spc="-1" strike="noStrike">
                <a:solidFill>
                  <a:srgbClr val="ff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тип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величин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локализациј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ран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еадекватан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илив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рв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исуство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талн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нфекциј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ретањ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омицањ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овређеног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злагањ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траум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исуство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траног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тел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јонизујућ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ambria"/>
              </a:rPr>
              <a:t>UV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зрачењ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Системски</a:t>
            </a:r>
            <a:r>
              <a:rPr b="0" lang="sr-Latn-CS" sz="26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фактори</a:t>
            </a:r>
            <a:r>
              <a:rPr b="0" lang="sr-Latn-CS" sz="2600" spc="-1" strike="noStrike">
                <a:solidFill>
                  <a:srgbClr val="ff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тањ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циркулациј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нфекциј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метаболичк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татус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малнутриц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хормон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Компликације</a:t>
            </a:r>
            <a:r>
              <a:rPr b="0" lang="sr-Latn-C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у</a:t>
            </a:r>
            <a:r>
              <a:rPr b="0" lang="sr-Latn-C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току</a:t>
            </a:r>
            <a:r>
              <a:rPr b="0" lang="sr-Latn-C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зарастања</a:t>
            </a:r>
            <a:r>
              <a:rPr b="0" lang="sr-Latn-C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ран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42848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Дефицитно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тварањ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жиљк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билно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тварањ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жиљк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елоид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бујн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гранулациј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дивљ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месо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Ексцесивн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онтракциј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падањ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величин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ран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ејак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фиброз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пр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.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теж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пекотин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зарастају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онтрактурам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триктур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ГИТ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алмарн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(</a:t>
            </a:r>
            <a:r>
              <a:rPr b="0" i="1" lang="sr-Latn-CS" sz="2600" spc="-1" strike="noStrike">
                <a:solidFill>
                  <a:srgbClr val="000000"/>
                </a:solidFill>
                <a:latin typeface="Cambria"/>
              </a:rPr>
              <a:t>Dupuytren-ova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)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онтрактур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ОРГАНИЗАЦИОНИ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ПРОЦЕСИ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нављањ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умрлих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штећених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лиј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ло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н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зрокован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физиолошким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атолошким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ловим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играв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цесим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регенераци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репараци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снов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цес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еж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личн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еханизм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ухватај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играциј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лиферациј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иференцијациј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лиј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тивно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чешћ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екстрацелуларног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трикс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ECM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еђудејств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лиј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лиј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фактор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ст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)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лиј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–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ECM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тегрин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ECM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ECM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ОРГАНИЗАЦИЈ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9284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рганизација је процес потпуне или делимичне замене мртвих маса гранулационим и ожиљним ткивом са демаркацијом према околном ткиву помоћу фиброзне капсуле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цесу организације могу подлећи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- инфаркти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- некротична огњишта другог порекла (казеозна некроза са и без калцификације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- тромб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- запаљенски ексудати (фибринозни, фибринозно гнојни, гнојни),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- изливена крв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- страна тела егзогеног и ендогеног порекл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ОРГАНИЗАЦИЈ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 процесу организације прво долази до реактивног запаљења праћеног следственом ензимском разградњом и фагоцитозом некротичног супстрат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 следећој фази долази до урастања гранулационог ткива које сазревањем и ремоделацијом прелази у фиброзно ткиво при чему се формира ожиљак (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cicatrisatio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ли везивна капсула (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incapsulatio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) уколико се некротични супстрат није ресорбовао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Регенерациј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едставаљ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оцес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бнављањ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јединачних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групиц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ћелиј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штећеног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з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амену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згубљених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стоврсним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ћелијам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вим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оцесом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стиж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тпун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бнов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враћањ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функциј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ормалу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Регенерацион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пособност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брнуто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опорционалн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тепену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иферентованост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ћелиј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Регенерациј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двојак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Физиолошка</a:t>
            </a:r>
            <a:r>
              <a:rPr b="0" lang="sr-Latn-CS" sz="2600" spc="-1" strike="noStrike">
                <a:solidFill>
                  <a:srgbClr val="ff0000"/>
                </a:solidFill>
                <a:latin typeface="Perpetua"/>
              </a:rPr>
              <a:t> (</a:t>
            </a: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нормална</a:t>
            </a:r>
            <a:r>
              <a:rPr b="0" lang="sr-Latn-CS" sz="2600" spc="-1" strike="noStrike">
                <a:solidFill>
                  <a:srgbClr val="ff0000"/>
                </a:solidFill>
                <a:latin typeface="Perpetua"/>
              </a:rPr>
              <a:t>),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ад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јављ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редовном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циклусу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замен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дотрајалих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ћел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Репаративна</a:t>
            </a:r>
            <a:r>
              <a:rPr b="0" lang="sr-Latn-CS" sz="26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регенерација</a:t>
            </a:r>
            <a:r>
              <a:rPr b="0" lang="sr-Latn-CS" sz="2600" spc="-1" strike="noStrike">
                <a:solidFill>
                  <a:srgbClr val="ff0000"/>
                </a:solidFill>
                <a:latin typeface="Perpetua"/>
              </a:rPr>
              <a:t> (</a:t>
            </a:r>
            <a:r>
              <a:rPr b="0" lang="sr-CS" sz="2600" spc="-1" strike="noStrike">
                <a:solidFill>
                  <a:srgbClr val="ff0000"/>
                </a:solidFill>
                <a:latin typeface="Cambria"/>
              </a:rPr>
              <a:t>патолошка</a:t>
            </a:r>
            <a:r>
              <a:rPr b="0" lang="sr-Latn-CS" sz="2600" spc="-1" strike="noStrike">
                <a:solidFill>
                  <a:srgbClr val="ff0000"/>
                </a:solidFill>
                <a:latin typeface="Perpetua"/>
              </a:rPr>
              <a:t>),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бнов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ћелиј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дешав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осл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атолошког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штећењ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губитк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ткив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64296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Регенерација се одвија на два начина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з околних неоштећених диферентованих ћелија које мигрирају, пролиферишу и подлежу дедиференцијацији пре редиференцијације у зони оштећеног ткива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з матичне, стем ћелије ткива која пролиферише и подлеже диференцијациј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Регенерациј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авило је да диферентованија ткива имају мањи капацитет за регенерацију од једноставних ткива али постији и много изузетака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Тако на пример ћелије јетре које су високо диферентоване и специјализованих функција регенеришу брже од мишићних ћелија и ћелија бубрежних тубула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Регенерација лабилних ћелиј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9284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Регенерација епителних ћелија у физиолошким условима настаје пролиферациом (деобом) и диференцијацијом тзв. резервних (стем) ћелија које су присутне уз базалну мембрану скоро свих епитела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Регенерација крвних елемената врши се током целог живота из матичне ћелије у костној сржи, пролиферацијом и диференцијацијом кроз низ прелазних форми које су карактеристичне за сваки од типова крвних елемената.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428400"/>
            <a:ext cx="822960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генерација пролази кроз три стадијума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1.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 формирање крвног коагулума и развијање акутне запаљенске реакције у току првих 24 до 36 часов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2.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 миграција ћелија преко огољене површине почиње већ након 1 сата а повећана митотска активност базалних ћелија околног епитела настаје већ крајем првог дан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ва пролиферативна активност обезбеђује замену ћелија које су мигрирале дуж екстрацелуларног матрикса као и наставак континуиране миграције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цес регенерације траје дуже уколико је оштећена базална мембрана. Формирањем једног слоја ћелија долази до прекида миграције феноменом контактне инхибиције</a:t>
            </a:r>
            <a:r>
              <a:rPr b="0" lang="sr-CS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sr-CS" sz="3200" spc="-1" strike="noStrike">
                <a:solidFill>
                  <a:srgbClr val="ff0000"/>
                </a:solidFill>
                <a:latin typeface="Cambria"/>
              </a:rPr>
              <a:t>3.</a:t>
            </a:r>
            <a:r>
              <a:rPr b="0" lang="sr-CS" sz="3200" spc="-1" strike="noStrike">
                <a:solidFill>
                  <a:srgbClr val="000000"/>
                </a:solidFill>
                <a:latin typeface="Cambria"/>
              </a:rPr>
              <a:t> диференцијација епитела почиње 4 дана након оштећења реаранжирањем пролиферисаних ћелија. За потпуну обнову ткива потребно је више од 6 недеља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696464"/>
                </a:solidFill>
                <a:latin typeface="Calibri"/>
              </a:rPr>
              <a:t>Регенерација стабилних ћелија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о потпуне регенерације ткива грађених из стабилних ћелија долази само ако је везивно ткивни скелет који има улогу водича за миграцију пролиферишућих ћелија неоштећен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 супротном, у процес надокнаде ткива укључује се механизам фиброплазије при чему се оштећено ткиво надокнађује везивним ткивом делимично или у целини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696464"/>
                </a:solidFill>
                <a:latin typeface="Calibri"/>
              </a:rPr>
              <a:t>Ћелијска</a:t>
            </a:r>
            <a:r>
              <a:rPr b="0" lang="sr-Latn-CS" sz="34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3400" spc="-1" strike="noStrike">
                <a:solidFill>
                  <a:srgbClr val="696464"/>
                </a:solidFill>
                <a:latin typeface="Calibri"/>
              </a:rPr>
              <a:t>пролиферација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в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гресивн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цес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рганизм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ализуј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цесим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лијск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лифераци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стваривањем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зајамних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тицај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ли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лиј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ли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ECM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лијск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еоб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гулисан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енетск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ј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пособношћ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говор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епигенетск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тица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лаз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њен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колин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лиферациј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лиј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опходн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цесим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ембриогенез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звој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растањ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н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муним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говорим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генерацијам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Регенерација стабилних ћелиј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нцип регенерације стабилних ћелија најбоље се може показати на примеру јетре која има највећу способност регенерације чак и ако се уклони 90% ткива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Хемијска и метаболичка оштећења јетре уз очувани екстрацелуларни матрикс у облику ретикулинске потке могу се потпуно регенерисати структурно и функционално за две недеље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ови хепатоцити постају диферентовани за бројне транспортне, катаболичке и синтетске функције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571680"/>
            <a:ext cx="8229600" cy="55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ред пролиферишућих диферентованих хепатоцита у јетри постоји на граници између хепатоцита и најмањих сегмената билијарног стабла популација стем ћелија које се могу диференцирати у хепатоците и епител билијарних каналића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о дође до разарања везивно ткивне потке долази до процеса фиброплазије и цикатризације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мпоненте екстрацелуларног матрикса (ламинин, колаген типа 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I i IV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) у току овог процеса стварају Итове ћелије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зличити фактори раста су митогени за хепатоците: 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EGF, HGF, TGF</a:t>
            </a:r>
            <a:r>
              <a:rPr b="0" i="1" lang="el-GR" sz="2400" spc="-1" strike="noStrike">
                <a:solidFill>
                  <a:srgbClr val="000000"/>
                </a:solidFill>
                <a:latin typeface="Cambria"/>
              </a:rPr>
              <a:t>α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 процес регенерације повољно утичу естроген инсулин, глукагон, вазопресин, ангиотензин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571680"/>
            <a:ext cx="8229600" cy="55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 бубрегу гломерули немају регенративну способност док епител бубрежних каналића регенерише уколико је очувана базална мембрана, пролиферацијом, миграцијом, повећаном митотском активношћу и функционалном диференцијацијом у току три недељ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латке мишићне ћелије (утерус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, зида желуца и колона, крвних судова) имају способност рег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ције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 али се веће лезије замењују ожиљним ткивом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Ендотелне ћелије имају способност митотских деоба, али брзина зависи од типа и величине крвног суда тако да је њихова регенерација у аорти знатно слабија него у капиларним крвним судовим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499680"/>
            <a:ext cx="82296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стеопрогениторне ћелије су најмање диферентоване ћелије које стварају кост и присутне су у периосту и ендосту при чему за потпуну ремоделацију коштаног ткива потребно и до неколико годин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келетне мишићне ћелије имају извесну способност регенерације из тзв. сателитних ћелија које се налазе између ћелијске и базалне мембране скелетне мишићне ћелије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колико је базална мембрана интактна миобласти се фузионишу, сазревају и формирају нова мултинуклеарна мишићна влакна док се при већим оштећењима стварају ожиљц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Регенерација перманентних ћелиј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рдиомиоцити губе способност за деобу након рођења и може се само повећати њихова величина (хипертрофија). После инфаркта оштећење у миокарду се замењује ожиљним ткивом (фибр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ласти и колаген типа 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урони централног нервног система не регенеришу након повреде, долази до трајног губитка структуре и функције са стварањем глијалног ожиљка или шупљине тзв. псеудоцисте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1429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mbria"/>
              </a:rPr>
              <a:t>Регенерација периферног нерва је могућа само уколико је очувано тело нервне ћелије. Процес регенерације пролази кроз више фаза које се одигравају у телу нервне ћелије, на проксималном и дисталном сегменту пресеченог нерва као и у околном ткиву.</a:t>
            </a:r>
            <a:endParaRPr b="0" lang="en-US" sz="23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mbria"/>
              </a:rPr>
              <a:t>У телу нервне ћелије долази до аксоналне реакције - децентрализације једра. Дезинтеграција аксона и мијелина (</a:t>
            </a:r>
            <a:r>
              <a:rPr b="0" i="1" lang="sr-Latn-CS" sz="2300" spc="-1" strike="noStrike">
                <a:solidFill>
                  <a:srgbClr val="000000"/>
                </a:solidFill>
                <a:latin typeface="Cambria"/>
              </a:rPr>
              <a:t>Wallerova </a:t>
            </a:r>
            <a:r>
              <a:rPr b="0" i="1" lang="sr-CS" sz="2300" spc="-1" strike="noStrike">
                <a:solidFill>
                  <a:srgbClr val="000000"/>
                </a:solidFill>
                <a:latin typeface="Cambria"/>
              </a:rPr>
              <a:t>дегенерација</a:t>
            </a:r>
            <a:r>
              <a:rPr b="0" lang="sr-CS" sz="2300" spc="-1" strike="noStrike">
                <a:solidFill>
                  <a:srgbClr val="000000"/>
                </a:solidFill>
                <a:latin typeface="Cambria"/>
              </a:rPr>
              <a:t>) проксималног и дисталног сегмента ензимски се разграђује од стране запаљенских ћелија и макрофага.</a:t>
            </a:r>
            <a:endParaRPr b="0" lang="en-US" sz="23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mbria"/>
              </a:rPr>
              <a:t>Након овога долази до пролиферације </a:t>
            </a:r>
            <a:r>
              <a:rPr b="0" i="1" lang="sr-Latn-CS" sz="2300" spc="-1" strike="noStrike">
                <a:solidFill>
                  <a:srgbClr val="000000"/>
                </a:solidFill>
                <a:latin typeface="Cambria"/>
              </a:rPr>
              <a:t>Schwannovih</a:t>
            </a:r>
            <a:r>
              <a:rPr b="0" lang="sr-CS" sz="2300" spc="-1" strike="noStrike">
                <a:solidFill>
                  <a:srgbClr val="000000"/>
                </a:solidFill>
                <a:latin typeface="Cambria"/>
              </a:rPr>
              <a:t> ћелија на проксималном окрајку које стварају стуб ћелија као путоказ за урастање аксоналних пупољака који се касније мијелинизују. </a:t>
            </a:r>
            <a:endParaRPr b="0" lang="en-US" sz="23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mbria"/>
              </a:rPr>
              <a:t>Након регенерације једро неурона поново заузима централну позицију.</a:t>
            </a:r>
            <a:endParaRPr b="0" lang="en-US" sz="23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Регенерација перманентних ћелиј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mbria"/>
              </a:rPr>
              <a:t>Нервни фактор раста (</a:t>
            </a:r>
            <a:r>
              <a:rPr b="0" i="1" lang="sr-Latn-CS" sz="3200" spc="-1" strike="noStrike">
                <a:solidFill>
                  <a:srgbClr val="000000"/>
                </a:solidFill>
                <a:latin typeface="Cambria"/>
              </a:rPr>
              <a:t>NGF</a:t>
            </a:r>
            <a:r>
              <a:rPr b="0" lang="sr-CS" sz="3200" spc="-1" strike="noStrike">
                <a:solidFill>
                  <a:srgbClr val="000000"/>
                </a:solidFill>
                <a:latin typeface="Cambria"/>
              </a:rPr>
              <a:t>) и ламинин, фибронектин и </a:t>
            </a:r>
            <a:r>
              <a:rPr b="0" i="1" lang="sr-CS" sz="3200" spc="-1" strike="noStrike">
                <a:solidFill>
                  <a:srgbClr val="000000"/>
                </a:solidFill>
                <a:latin typeface="Cambria"/>
              </a:rPr>
              <a:t>Е</a:t>
            </a:r>
            <a:r>
              <a:rPr b="0" lang="sr-CS" sz="3200" spc="-1" strike="noStrike">
                <a:solidFill>
                  <a:srgbClr val="000000"/>
                </a:solidFill>
                <a:latin typeface="Cambria"/>
              </a:rPr>
              <a:t>-катхерин стимулишу регенерацију нерва и стабилизацију пролиферисаног снопа </a:t>
            </a:r>
            <a:r>
              <a:rPr b="0" i="1" lang="sr-Latn-CS" sz="3200" spc="-1" strike="noStrike">
                <a:solidFill>
                  <a:srgbClr val="000000"/>
                </a:solidFill>
                <a:latin typeface="Cambria"/>
              </a:rPr>
              <a:t>Schwannovih</a:t>
            </a:r>
            <a:r>
              <a:rPr b="0" lang="sr-CS" sz="3200" spc="-1" strike="noStrike">
                <a:solidFill>
                  <a:srgbClr val="000000"/>
                </a:solidFill>
                <a:latin typeface="Cambria"/>
              </a:rPr>
              <a:t> ћелија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696464"/>
                </a:solidFill>
                <a:latin typeface="Calibri"/>
              </a:rPr>
              <a:t>Класификација</a:t>
            </a:r>
            <a:r>
              <a:rPr b="0" lang="sr-Latn-CS" sz="34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3400" spc="-1" strike="noStrike">
                <a:solidFill>
                  <a:srgbClr val="696464"/>
                </a:solidFill>
                <a:latin typeface="Calibri"/>
              </a:rPr>
              <a:t>ћелија</a:t>
            </a:r>
            <a:r>
              <a:rPr b="0" lang="sr-Latn-CS" sz="34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3400" spc="-1" strike="noStrike">
                <a:solidFill>
                  <a:srgbClr val="696464"/>
                </a:solidFill>
                <a:latin typeface="Calibri"/>
              </a:rPr>
              <a:t>према</a:t>
            </a:r>
            <a:r>
              <a:rPr b="0" lang="sr-Latn-CS" sz="34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3400" spc="-1" strike="noStrike">
                <a:solidFill>
                  <a:srgbClr val="696464"/>
                </a:solidFill>
                <a:latin typeface="Calibri"/>
              </a:rPr>
              <a:t>митотском</a:t>
            </a:r>
            <a:r>
              <a:rPr b="0" lang="sr-Latn-CS" sz="34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3400" spc="-1" strike="noStrike">
                <a:solidFill>
                  <a:srgbClr val="696464"/>
                </a:solidFill>
                <a:latin typeface="Calibri"/>
              </a:rPr>
              <a:t>индексу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снову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олиферативних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пособност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ћелиј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в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ћелиј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одељен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три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велик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групе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Лабилне</a:t>
            </a:r>
            <a:r>
              <a:rPr b="0" lang="sr-Latn-CS" sz="28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ћелиј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тално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ел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олиферишу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током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целог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живот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бухватају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кровн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аштитн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епител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бложн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епител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екскреторних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канал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жлезд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цилиндричн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епител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GIT-</a:t>
            </a:r>
            <a:r>
              <a:rPr b="0" i="1" lang="sr-CS" sz="28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респираторног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тракт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репродуктивни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истем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ћелиј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хематопоетског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апарата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Стабилне</a:t>
            </a:r>
            <a:r>
              <a:rPr b="0" lang="sr-Latn-CS" sz="28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ћелиј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реверзибилн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стмитотиц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угим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животним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веком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мају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изак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митотск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ндекс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ал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д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вољним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словим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обијају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пособност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ељењ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аренхимск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ћелиј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ендокриних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жлезд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јетр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анкреас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ендотелн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глаткомишићн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ћелиј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Перманентне</a:t>
            </a:r>
            <a:r>
              <a:rPr b="0" lang="sr-Latn-CS" sz="28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Cambria"/>
              </a:rPr>
              <a:t>ћелиј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реверзибилн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стмитотиц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високо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иферентован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ћелиј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без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пособност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еобу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ервн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ћелије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 кардиомиоцит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Екстрацелуларни</a:t>
            </a:r>
            <a:r>
              <a:rPr b="0" lang="sr-Latn-C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матрикс</a:t>
            </a:r>
            <a:r>
              <a:rPr b="0" lang="sr-Latn-C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Latn-CS" sz="4000" spc="-1" strike="noStrike">
                <a:solidFill>
                  <a:srgbClr val="696464"/>
                </a:solidFill>
                <a:latin typeface="Calibri"/>
              </a:rPr>
              <a:t>(</a:t>
            </a:r>
            <a:r>
              <a:rPr b="0" i="1" lang="en-US" sz="4000" spc="-1" strike="noStrike">
                <a:solidFill>
                  <a:srgbClr val="696464"/>
                </a:solidFill>
                <a:latin typeface="Calibri"/>
              </a:rPr>
              <a:t>ECM</a:t>
            </a:r>
            <a:r>
              <a:rPr b="0" lang="sr-Latn-CS" sz="4000" spc="-1" strike="noStrike">
                <a:solidFill>
                  <a:srgbClr val="696464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стављ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начајан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ценат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ваког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езивног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лаз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ериват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епителних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д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азалн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ембран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B</a:t>
            </a:r>
            <a:r>
              <a:rPr b="0" i="1" lang="sr-CS" sz="24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чињен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табилног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кромолекул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лаз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тивним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еђуодносим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лијам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ECM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уж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труктурн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тпор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кив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стављ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инамичн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труктур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ј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змењу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формаци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лијам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прављ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цесим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играци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иференцијаци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звој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параци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веукупној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рганизациј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рган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војств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трикс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вис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јим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лаз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твар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лиј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сељавај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говарајућ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кивн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стор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фибробласт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хондробласт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стеобласт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...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лавн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мпонент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ECM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ин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Структурни</a:t>
            </a:r>
            <a:r>
              <a:rPr b="0" lang="sr-Latn-CS" sz="24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фиброзни</a:t>
            </a:r>
            <a:r>
              <a:rPr b="0" lang="sr-Latn-CS" sz="24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протеин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лаген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еластин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Атхезивни</a:t>
            </a:r>
            <a:r>
              <a:rPr b="0" lang="sr-Latn-CS" sz="24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гликопротеин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фибронектин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аминин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р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.)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в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топљен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Гел</a:t>
            </a:r>
            <a:r>
              <a:rPr b="0" lang="sr-Latn-CS" sz="24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протеогликана</a:t>
            </a:r>
            <a:r>
              <a:rPr b="0" lang="sr-Latn-CS" sz="24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гликозаминогликан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Репарациј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едстављ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амену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ткивног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ефект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фиброзним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ткивом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кад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говор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фиброплазиј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фиброз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з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стај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жиљак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Репарација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пшт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биолошк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дговор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штећењ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могућен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ептидним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регулаторним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чиниоцим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азваним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цитокиним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факторим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раста</a:t>
            </a: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Фактори</a:t>
            </a:r>
            <a:r>
              <a:rPr b="0" lang="sr-Latn-C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рас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Ендоген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гулатор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ст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творен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ругих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лиј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елуј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фактор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икросредин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кружењ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ећин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лекулск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кидач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крећ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кивн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парацију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страњивањ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штећењ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сновн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собине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фактор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ст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цитокина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Везују</a:t>
            </a:r>
            <a:r>
              <a:rPr b="0" lang="sr-Latn-CS" sz="24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за</a:t>
            </a:r>
            <a:r>
              <a:rPr b="0" lang="sr-Latn-CS" sz="24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одговарајуће</a:t>
            </a:r>
            <a:r>
              <a:rPr b="0" lang="sr-Latn-CS" sz="24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рецепторе</a:t>
            </a:r>
            <a:r>
              <a:rPr b="0" lang="sr-Latn-CS" sz="24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на</a:t>
            </a:r>
            <a:r>
              <a:rPr b="0" lang="sr-Latn-CS" sz="24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ћелијским</a:t>
            </a:r>
            <a:r>
              <a:rPr b="0" lang="sr-Latn-CS" sz="24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површинам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Митогени</a:t>
            </a:r>
            <a:r>
              <a:rPr b="0" lang="sr-Latn-CS" sz="24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с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Модулатори</a:t>
            </a:r>
            <a:r>
              <a:rPr b="0" lang="sr-Latn-CS" sz="24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су</a:t>
            </a:r>
            <a:r>
              <a:rPr b="0" lang="sr-Latn-CS" sz="24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ћелијског</a:t>
            </a:r>
            <a:r>
              <a:rPr b="0" lang="sr-Latn-CS" sz="24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понашањ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6:25:14Z</dcterms:created>
  <dc:creator>Dalibor</dc:creator>
  <dc:description/>
  <dc:language>en-US</dc:language>
  <cp:lastModifiedBy>KCKG</cp:lastModifiedBy>
  <dcterms:modified xsi:type="dcterms:W3CDTF">2019-02-07T12:41:07Z</dcterms:modified>
  <cp:revision>98</cp:revision>
  <dc:subject/>
  <dc:title>PROCESI ORGANIZACIJE. IMUNOPATOLOGIJA</dc:title>
</cp:coreProperties>
</file>